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4113-0309-4837-8156-92981BEF7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C0D3-92F5-4C3E-868A-43BCC089C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9632-2281-4437-ACFC-0087A5BC7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8034-0331-4DD1-88F5-57851C4958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4BAB-26AD-485B-9BAE-80010D92FA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37BB-26F4-432D-B730-55623602F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7777-13C7-40C4-BFE4-2AFFCA4EB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DD55-7C5C-4C79-A43E-38CC4BF9F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D6CD-6255-4B06-BD4E-95A11401F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932D-05F0-4CD7-A70A-307A65F70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8BD6-DD1D-43CD-9E92-C4A47C9F4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B1BD-FBC5-49CB-8991-E606A51E7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6B4C-DBB2-4D0F-BA9A-F7756C1CB6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K-4 is Awesom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40" name="Content Placeholder 7" descr="Screen shot 2011-08-16 at 4.50.08 PM.png"/>
          <p:cNvPicPr/>
          <p:nvPr/>
        </p:nvPicPr>
        <p:blipFill>
          <a:blip r:embed="rId1"/>
          <a:srcRect l="0" t="-105131" r="0" b="-105131"/>
          <a:stretch/>
        </p:blipFill>
        <p:spPr>
          <a:xfrm>
            <a:off x="457200" y="-228600"/>
            <a:ext cx="4038480" cy="6477120"/>
          </a:xfrm>
          <a:prstGeom prst="rect">
            <a:avLst/>
          </a:prstGeom>
          <a:ln w="0">
            <a:noFill/>
          </a:ln>
        </p:spPr>
      </p:pic>
      <p:sp>
        <p:nvSpPr>
          <p:cNvPr id="4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ED28-1640-4A9B-A66A-C802C37809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8"/>
          <p:cNvSpPr/>
          <p:nvPr/>
        </p:nvSpPr>
        <p:spPr>
          <a:xfrm>
            <a:off x="304920" y="44197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nifer Kristen Carla   C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0"/>
          <p:cNvSpPr/>
          <p:nvPr/>
        </p:nvSpPr>
        <p:spPr>
          <a:xfrm>
            <a:off x="4648320" y="4419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ia      Sandy    Sue   L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Content Placeholder 12" descr="Screen shot 2011-08-16 at 4.52.47 PM.png"/>
          <p:cNvPicPr/>
          <p:nvPr/>
        </p:nvPicPr>
        <p:blipFill>
          <a:blip r:embed="rId2"/>
          <a:srcRect l="0" t="-3644" r="0" b="-3644"/>
          <a:stretch/>
        </p:blipFill>
        <p:spPr>
          <a:xfrm>
            <a:off x="4648320" y="1905120"/>
            <a:ext cx="403848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K-4 is Awesom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989F-EABA-46CB-A49C-04E32F047C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304920" y="4419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issa Lori    Barb  H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4495680" y="4419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y MaryLou Tracey Chris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ontent Placeholder 13" descr="Screen shot 2011-08-16 at 4.55.48 PM.png"/>
          <p:cNvPicPr/>
          <p:nvPr/>
        </p:nvPicPr>
        <p:blipFill>
          <a:blip r:embed="rId1"/>
          <a:srcRect l="0" t="-2514" r="1887" b="-8042"/>
          <a:stretch/>
        </p:blipFill>
        <p:spPr>
          <a:xfrm>
            <a:off x="380880" y="1600200"/>
            <a:ext cx="3962520" cy="236232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14" descr="Screen shot 2011-08-16 at 4.59.36 PM.png"/>
          <p:cNvPicPr/>
          <p:nvPr/>
        </p:nvPicPr>
        <p:blipFill>
          <a:blip r:embed="rId2"/>
          <a:srcRect l="0" t="-8690" r="0" b="-8690"/>
          <a:stretch/>
        </p:blipFill>
        <p:spPr>
          <a:xfrm>
            <a:off x="4648320" y="1447920"/>
            <a:ext cx="40384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K-4 is Awesom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9FFF-9BEB-4C0B-B05A-BDDB1F5063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0" y="4419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ie Heather   Heather Nik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4495680" y="4419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i     Tracy    Renee      D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11" descr="Screen shot 2011-08-16 at 5.01.05 PM.png"/>
          <p:cNvPicPr/>
          <p:nvPr/>
        </p:nvPicPr>
        <p:blipFill>
          <a:blip r:embed="rId1"/>
          <a:srcRect l="0" t="-26268" r="0" b="-847"/>
          <a:stretch/>
        </p:blipFill>
        <p:spPr>
          <a:xfrm>
            <a:off x="457200" y="160020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16" descr="Screen shot 2011-08-16 at 5.02.30 PM.png"/>
          <p:cNvPicPr/>
          <p:nvPr/>
        </p:nvPicPr>
        <p:blipFill>
          <a:blip r:embed="rId2"/>
          <a:srcRect l="0" t="-6232" r="0" b="3544"/>
          <a:stretch/>
        </p:blipFill>
        <p:spPr>
          <a:xfrm>
            <a:off x="4648320" y="198108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K-4 is Awesome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EA4F-842C-4F84-9B3C-08A4BFA42B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457200" y="4419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i   Megan   Daria   M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5" descr="Screen shot 2011-08-17 at 11.20.32 AM.png"/>
          <p:cNvPicPr/>
          <p:nvPr/>
        </p:nvPicPr>
        <p:blipFill>
          <a:blip r:embed="rId1"/>
          <a:srcRect l="0" t="-7448" r="0" b="-7448"/>
          <a:stretch/>
        </p:blipFill>
        <p:spPr>
          <a:xfrm>
            <a:off x="457200" y="1600200"/>
            <a:ext cx="40384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20:47:45Z</dcterms:created>
  <dc:creator>CSC</dc:creator>
  <dc:description/>
  <cp:keywords/>
  <dc:language>en-US</dc:language>
  <cp:lastModifiedBy>Kathy Kubota-Zarivnij</cp:lastModifiedBy>
  <dcterms:modified xsi:type="dcterms:W3CDTF">2011-08-17T15:33:43Z</dcterms:modified>
  <cp:revision>14</cp:revision>
  <dc:subject/>
  <dc:title>&lt;Title&gt;</dc:title>
</cp:coreProperties>
</file>